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7B5-6348-4C95-9964-8362649F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71C-72CA-44FD-A737-3B84102A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63DF1-343F-47AE-B5B2-218E1B2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DB51-4F77-4C9F-9512-10977FC9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1BF40-40E9-4BC1-837A-4DA6EADA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2B065-6EFA-4605-96C9-DD074A5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7BDDB-9C4B-468E-9833-B5213BB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72565-0B35-4C35-9189-32E94CE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56BD0-4E94-4DBB-B765-738F2961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10EDF-7017-48B9-8041-B221FA39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EEF79-B562-4108-B544-87626F63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2ACBC-D03C-4E93-AA44-BE80412D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4CC-71FF-457F-A84C-9F495796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F85D5-F2E7-4FF8-9C3F-93A101B3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CF0C8-80F3-47C7-BEAF-DD6C3E0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338B3-A155-4BF3-B100-6C4A15E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4E586-18E3-41D8-BC08-825AB33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9F7E5-FBDD-4A50-8F71-72300F4A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00385-9E7F-4E66-B97A-92F5E88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54523-7F5F-4C26-894E-F4E8B2B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7BF8D-33D8-4C26-84EF-6D51364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DF610-19A0-4EF4-B3CF-EA41AD3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D622E-9F94-4218-87C9-A4F696C9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862-3B56-4C85-8E82-B810D870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6F927-86DC-47BD-A2E6-FC1983EF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B2195-0512-4D5A-BD6D-9FBE7761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33D96-610D-422C-B4AE-20EAFB87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C8FFA-AD3D-4C44-A2DA-0DF80DB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2BA2E-9531-4F18-B341-0DA9ABF5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DBD2-FCED-45D3-BA0D-4F14106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2FC8A-EA3B-4618-86CF-3293DE8D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54FCA-9B3F-47D6-A977-4BB1B62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8A17-32AC-4C67-B210-33103C8D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2DC70-984E-4216-9009-9FA042F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9962-90AA-4FEC-8812-0590F09E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A479D-4A79-43D6-892E-6A3EECB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1B6C1-1F7A-45B6-8895-D86A278F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AB9A1-60A3-48FC-ABD4-F0D174FE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38FDA-98C3-4C52-875C-C213C1F1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7BAB2-E526-4773-89C9-A23F19F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44365-91F8-4A1F-BB2C-F87929D9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A61E9-BFF0-4056-A2DC-38EC478D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C4EAB-A614-489C-B848-DC3579E4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B6E75-3149-4F2D-8B90-54ED3F80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1F5FD-2926-4385-A8BB-8C96962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444C-90D9-48CE-92CC-E3621FAC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2B11E-6967-4214-AE53-4A3FFA8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1C588-F9E6-4182-A1C4-0097FD3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C9A68-C83A-4E47-813B-765B98BB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7EB13-B120-4242-B4FC-B1A38AEA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4903B-321A-4796-8634-6F7F27FD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EC389-C0B3-4AEB-A5CE-86BB654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E7227-8278-4ECB-B14C-475E14F5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8B186-F4F6-40EB-B828-3FFF826C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0F8CC-9DEC-47DF-8984-AD253114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B25AE-5156-43C9-92B2-BF2431C3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1DB1-7D6F-41B4-855F-EBA0173F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D3F52-CDA6-4E4E-9733-D386CE24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C84AC-7C72-4FAF-8F64-7A467C7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4DFBB-FF05-4A35-8E81-C1D697E2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F6374-2F70-42BE-BF40-C0F22C0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B4AFA-0974-4279-9374-F11A7036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0F170-8554-4946-963F-03B424B9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9A9F3-95EA-4440-BC26-7DEE97E7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36E85-AA11-46F7-BB02-25179E27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2B9E4-2E4A-4C74-9995-E092818A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535FD-F4DA-41DC-A2BC-152422CA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5581-4A45-4A42-9146-FA5C0895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E2F4A-9953-44B4-9E97-508FCC3C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9AA9B-163D-408E-995A-F764E116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255EF-53F9-4372-829B-12A22099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BE36B-DC1D-4055-9480-85369B5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070F7-EC1F-45DA-8AB3-4C0BC09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638A2-F4C2-4789-AB59-F8CA95D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EF8DD-CFE6-4E71-9354-40395F02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9F150-05B8-4CD8-B4FE-50120DD0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FBC84-278F-4075-8F3B-4AD61CB5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DB67F-C7C9-494B-9888-160B9F62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E320-235A-4E9C-B016-07BAE97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8321C-26EE-4C77-9EF5-FCD0CD3D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7FC44-5DBE-498F-A15A-71D4E873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3C299-5F1B-4C98-9941-9E02E3E1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73BA2-C763-4961-A8D2-FF8380A8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08C6C-1AE5-410D-96B3-64662144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C4C85-437F-4A55-9CAF-9CD4E01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88449-88B4-405C-A859-A2134B5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B9137-3B5A-4820-8CA4-757DCB49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59F3F-AA9B-48E9-9AA4-049F9926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4DBA0-EA31-4CA6-BFC5-7507C52A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387-3040-414F-8149-C0C98BD4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DB36A-A1F2-424F-BB49-5AD2203B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384BF-23D9-4CB0-95CA-7C75D015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3E4BC-1649-4434-B2DC-24094A25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A09FA-8A74-4F11-940C-5F6651E9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B0DEF-E11D-4EB2-9D77-8EEDBEE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5BEA0-BA6C-43FA-9AF5-538D0D8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8EFA4-F69B-4C1C-B9B2-42A39D9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1D368-DAE8-4E04-9130-B33FD81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D19C3-ACE5-4C0C-BB0F-E44CD39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A23D1-9B23-4155-84BC-F4EAAAF8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BADC-4DAB-4873-9252-5C7BFFF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4EBC1-71C4-4081-8ACD-CDBE8C90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71365-A268-4C79-B0D5-806E18A1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C21A6-5230-4E01-8C04-43100366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42596-6B5E-4D86-BAFD-ED3CF473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316BC-8140-43E0-A104-4CBA494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2DC4F-DE57-4822-A860-C9346023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4CFFA-9E23-4AFB-8AE2-1394CB85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E1BBE-67A4-4A5D-8E15-48E3D3F5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335D8-5722-4C60-B89C-8C2F37F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056EE-4E95-4A29-A1E7-B39386E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7DE-2609-4CB8-B30C-D95B8FA7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A2A-7BEF-4189-8731-E30AD208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A9B31-B61A-4421-AB0A-06DDB57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C4E7A-65E4-4061-BC0F-6E5D6368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A9F98C-96CC-42B8-B337-F939C200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01419-CC97-4175-97D0-2282E4F8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6F9B9-811C-4907-90EF-8A760C03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454BD-3B6D-49EB-94E0-E93D8ADD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E4B15-DCC2-493E-87DA-2FD4CAAF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3335E-B04F-4A3D-982E-DE206A1C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F449B-1FBD-46B3-A9D2-3CA174C5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B3AD0-6AAC-4DFA-BD89-4094C784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E457-0F20-47E3-AC96-860DEC8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90E1F-DD5F-4F0E-9360-EEAF0181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CAABA-2BE3-44B9-8EBE-5AD218F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4ADFC-D61B-4ED6-B2CA-77B76408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7B875-9573-4B87-8973-7B84411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90EFD-B7C8-4E78-95F3-36C9BC32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BF42C-BB0D-4410-B753-0F5EB354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D2E6A-1B4E-4245-8F14-DF57167E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549BC-DCC7-486D-A4DF-3F530342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B23A2-179F-4E34-8AA7-CCF59CC6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40F18-CF05-4BDA-A8C1-DD56CDEB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060-C037-4390-99D7-61827B2B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7D463-38C3-4F51-AF2E-50C5B1FF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D963D-630C-449A-8894-37C995C9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113FE-531F-4E2F-96D2-BFA71F61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2784A-FBCE-4914-8B22-9C26EF6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1C2D90-A00D-4EDB-A44C-CD1B5EE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FBA74-6785-4488-A7DB-8F62C3CE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0E849-57A2-4EBC-A935-4110772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7230D9-AE11-45AD-9F66-FDBBC703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09ABD-4DB7-4BA1-AEDE-3BF11ACF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08F4D-46B3-40F4-8A0A-E43A15C2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2B75-EFDC-4230-9990-E4F403E9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60407-6A6C-448A-A4A0-DBF5A26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546AA-96AA-484A-9171-84AEADF5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391217-7EA1-4863-8D87-5F5F08A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DF109-3F75-49BC-B520-B3857B5A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C668A-FCA2-448A-8520-6B479604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0A243-2DA7-4EF5-B8D8-D9FC8BA5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ECCEF-D9B7-4729-8538-AA4B67E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E1F5C-7DB7-426F-AF18-ECE6D19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50177-4F1E-4195-AD17-4FE4A270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BA799-2C08-48D8-8D53-2354B94E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BDFE-D277-4549-AE23-FACC2C83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E13F0-BC1E-4ED1-A157-1E83BDC7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A9DB1-9FDA-4E2C-A860-CE0DACDB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2760BF-B431-4FF1-801D-1FBBA823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6AC8C-1125-4702-94CF-3562D84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69FDB-36B8-4DE0-84CC-10A0377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33F00-0AA2-48F2-9765-EA617326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86F6E-7AA7-467E-96A0-595078D2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2F3BD-8FF7-4AF4-A13B-48184B3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E58A7-1490-4F54-8AD4-1FB99F0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E22C4-9DB0-4370-9E90-A542C6A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5223-43D3-4A99-9280-7363D6DF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E2F17-3ED5-462C-BF2F-0FD513C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7E638-7EC4-485A-8C5C-5303DED6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0A27DA-6C07-4FA9-95F5-D7E3E58F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CE05-32C1-4FA4-84C2-98AB049A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312E-BD09-44B0-87BE-3D2C2C5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DA7B-9E80-4845-9ED1-1DC69EA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612B-2F64-4D6A-989A-122C1FEF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23A-75EC-4AA9-BD0A-EBC2F827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2F48-1D77-430B-AAE2-F2B8BDBC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FD93-29BD-4F04-84B0-7C60D96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70B9-F29A-458F-9BDA-6E05F6A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BA45-4DA8-41AF-918A-304E7002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2BB0-0451-4260-B9B4-8A96E189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F67A-A3FE-4D3A-9837-31B0EC09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0827-D649-4CA7-8414-8A7DCB6C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DEBB3-544B-432E-9A8D-1B80F686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B6C1-1172-4FDB-AEC5-C69D567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047D-3F49-4EAD-83C6-95D91070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4C5-BAFB-4283-ACB4-0005319E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BD0B-1A87-4E64-9057-7F229D7E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6C92-3BD8-401B-A838-D3B69C0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894F-D1F2-41A8-ADC3-5F27F09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C19F-E109-412B-B581-7DD0C4C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155DE-AC60-4B5F-988E-6622F4D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2416-0CED-4AB5-A7C2-A3B61B2C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A9FF-7452-4084-9347-E086AC0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03B6-4F0B-47D7-9E6C-0665D70B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157F-4FEF-452D-B00A-65F32848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C34D-65E4-4BD0-A201-3E218D23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F80-A263-45B7-91ED-605932EC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D88D-2D90-46CF-9F1C-E6EC85C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11FBC-FA61-4316-AE4A-810BD47F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309B-8DF8-4021-A948-468FC138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3F595-11D4-4F9F-A4FD-34F5E50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9C1E-9C33-44AB-BE52-1A80304F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6DF1F-287B-4DA5-A2C2-63287BF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0B08-31D9-4A34-9C1C-29965852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75AA-7C4F-4751-9897-A88565F1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9AA2-3433-4A49-8CC8-72453112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CA66-1EA3-4ECB-9D46-E57AF20A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BD7-AFD4-44F3-AE58-F5508554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E805-0B99-4031-A4BA-A6FDE1C4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9785-047B-44A6-BDCA-3C1FE47D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CE90-980F-4C54-82D1-4C7ECC64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03601-E72A-4C24-9551-2613D5F4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EF6CA-5E37-42DF-86E3-6590B02D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7CD3-DE77-4ADA-9E0A-AA88DA36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98E5-7B9E-4414-8724-71275FF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E96DB-5F88-4061-B665-41FC7F2F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F9E8-1E0A-42B1-81F7-4FF2E588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7E3C-2495-4A5A-86DA-682C1092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55F-8610-41BB-9CEC-B1B065F1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684D-8B8C-4CE0-9BB0-90AA3A1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7EBA-0513-40BE-B84C-45BEBDF9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23BEB-6E8D-4091-A188-5AFA6379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9B381-D5EA-4A76-AB6C-B1409542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2EEC-D640-4498-B3F2-44FBCF9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34F7-BA13-4209-99EA-489416B2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6106-2FA8-4685-AED3-050B282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7CC0-DA15-406D-AFA4-33509F0A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3195-AE6F-4B07-8CC2-A4E201B1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4833C-3368-424F-BD74-96A922E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5CE-A904-4ABC-B77E-D5B42EF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6AC7-AE15-49D5-B678-FE75C00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1F1B-BAF2-444F-9708-CFFF740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2F55-D017-430A-9680-5DF13AF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2ADE-CB05-4F25-90B9-29541142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4D8A3-5F79-4F52-B5F0-0E78E244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F6BC-C6C5-47A9-A1A3-53A2B5F4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5A559-6AF7-49B9-938C-3D849F75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956C3-1A1B-4E8F-AFD0-8A22786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60DB7-7EA7-41EC-B458-026CAB7B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5B3C9-A297-4EE3-B3BE-573FA6E7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1D1-4715-4B19-BC7C-8F8E421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2287-92F2-4EE1-9A90-3A2E499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459C-EECF-4ABC-A457-B38D59C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453D1-9E51-4A75-9801-96444B4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F086-49ED-42D1-9F0A-F07C973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CB876-3D15-4383-8A86-25AA52F5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231D-B959-43DF-8740-D73BDEF5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E1A94-1826-48C9-B328-43D042FD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9B0DD-BC0B-4989-9DAE-2B35AD4A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DB904-2DE9-48FD-91C0-C71EEB1A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D814C-9183-434C-A31B-5DF7C5E2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F596-629A-4839-A9B1-37681E3238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D0A-1BB6-4F78-8402-5413DC906A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554-3B07-49AC-8A56-D67E0649F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59B5-CA7A-4517-A4C4-16A9414A6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8119-A863-4905-A5CE-B6B1CC330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BAB-9CEF-4BE8-8D60-C80E6D27B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DEFF-7CDB-486D-BC23-F2A8221B1C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B1C4-0CD7-4C54-9644-2FCC47965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C98D-2B7F-4D95-A721-0468CF028A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F458-9557-420B-B61E-85EC9E0AB8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F3D9-6EC0-455F-8832-26E97C9B5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50CA-F970-44F4-9305-690E9BEA9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C51-3355-4816-A7B9-884AE8BBE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9059-9137-4533-A794-160ED99D8B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39B-A470-42DE-B9DF-BDC861EF8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719F-1BBF-4BED-97F7-4DDEBAC56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A0C-113B-4501-B896-666E409E8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BD35-75D8-43DD-8FC5-0E6B1F821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BE0F-A0B0-4490-B710-3D45B2AE81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1B22-90AE-4C23-91E4-191932A0EC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5EA-092C-47A7-84BB-DC5CDFCEE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CD7D-7EC1-4A4C-8393-EAF2BC98B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3D72-C325-4AED-BDD6-004D752F3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495-F52C-450B-986A-E09471A46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2C1-253B-4A89-8E3D-A82D5DD730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AD4-F7E7-4CC5-A901-57AA2ECE5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8492-8029-4186-ACCC-F0CA68096B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045-9EB3-42FF-BFC8-EE7A99475B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DE22-055D-4B93-B556-83BDF9DAF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6634-9F56-46AB-AFC8-8A48B9F87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B23A-A6CF-4B2A-BC40-FDA7E1B2E3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199C-D86F-456E-99C4-E0BB24DEA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D6D-9927-403E-83E6-34409FA1B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469C-8B31-465D-8E33-5844D065BC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F46-3EAF-45B4-8964-6CE2E24BBC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9E78-FD54-4328-91BA-8A213051A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7627-4C37-4DBC-9827-EACF9082F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7074-7C5A-443D-A41B-923E78FCE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1CA-CC7D-4E00-9A61-9BD1ABC08C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EA35-84B8-4BE1-9117-CB27E6799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23960" y="2986200"/>
            <a:ext cx="76960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69633" descr=""/>
          <p:cNvPicPr/>
          <p:nvPr/>
        </p:nvPicPr>
        <p:blipFill>
          <a:blip r:embed="rId1"/>
          <a:stretch/>
        </p:blipFill>
        <p:spPr>
          <a:xfrm>
            <a:off x="509760" y="1038240"/>
            <a:ext cx="8124480" cy="4781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611280" y="1038240"/>
            <a:ext cx="770580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770580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770580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82560" y="3068640"/>
            <a:ext cx="770580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55640" y="3760920"/>
            <a:ext cx="7993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8609" descr=""/>
          <p:cNvPicPr/>
          <p:nvPr/>
        </p:nvPicPr>
        <p:blipFill>
          <a:blip r:embed="rId1"/>
          <a:stretch/>
        </p:blipFill>
        <p:spPr>
          <a:xfrm>
            <a:off x="1252440" y="1052640"/>
            <a:ext cx="6639120" cy="226692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68610" descr=""/>
          <p:cNvPicPr/>
          <p:nvPr/>
        </p:nvPicPr>
        <p:blipFill>
          <a:blip r:embed="rId2"/>
          <a:stretch/>
        </p:blipFill>
        <p:spPr>
          <a:xfrm>
            <a:off x="781200" y="3400560"/>
            <a:ext cx="7581600" cy="2333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447192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236000" y="1628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23600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2050920" y="4005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212400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4788000" y="4005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486108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7596360" y="40482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626240" y="46958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00120" y="776160"/>
            <a:ext cx="7943760" cy="5305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16360" y="275256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19640" y="3213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804000" y="2681280"/>
            <a:ext cx="151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866880" y="1747800"/>
            <a:ext cx="7410240" cy="3362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521080" cy="2736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627280" y="1773360"/>
            <a:ext cx="165744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003640" y="2421000"/>
            <a:ext cx="2881440" cy="27367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516720" y="1773360"/>
            <a:ext cx="165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452520" y="190440"/>
            <a:ext cx="8238960" cy="6477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197240" y="400680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24000" y="758880"/>
            <a:ext cx="8496000" cy="5838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4551480"/>
            <a:ext cx="59058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508464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55640" y="560376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826920" y="6149880"/>
            <a:ext cx="5905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457200" y="1924200"/>
            <a:ext cx="8229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8001000" cy="4143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042920" y="276696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042920" y="342900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042920" y="4135320"/>
            <a:ext cx="7416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1195560" y="2347920"/>
            <a:ext cx="6752880" cy="2162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835280" y="319716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257040" y="866880"/>
            <a:ext cx="86299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3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